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62481D-06EE-496F-85FC-BA53DC58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88722EA-FDC1-4BB1-8D19-03A55EF1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836D47-47B9-4F5B-AC0B-4F783073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B2BBB14-65A6-44C3-B543-890298E35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B84F7F-3275-4741-805C-2783459C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582CDE-D449-4BB0-895C-419B9A44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9D368A-D6E5-49F9-8051-5C148E07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DB9557C-7982-4734-9540-E445C1F6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6D39C5B-C1B7-4913-BA16-136A187D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B7C0187-4070-4AF4-8A6B-9BC08D45A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5EF355-6281-4B8D-B90E-1D319AD3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B08A8BE-BC34-4183-9F6A-4525679ED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B2CA4EF-9596-455D-A4B9-00A292549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AD7-5489-4C10-9E22-1EEA403F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19C-ED94-49C3-8DAC-0F9A005E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87B-53A6-4E40-8CAD-E6FABB34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E61-B05A-4661-B7A5-21D2C16C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14E-0210-4F1A-9516-A8750937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24E-CE17-4FD0-801B-D9B5D5F4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F8D-FD8E-4292-9617-BD5D8F01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964-9A01-49A1-B195-605BAA84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657-C75D-4715-B29A-16B63E63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644-92FE-450B-A5C2-F9BD5AB8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772-5624-4AB3-B550-8B3B754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3AD-290B-4B19-BF2E-9ECC1A0E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884-AAF8-4F95-9A70-D0D9B180F8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8504-6C47-409A-8128-C976100E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3399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ne Hyatt Tho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puty 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yne H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51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5181480"/>
            <a:ext cx="5257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191-545F-4E3E-BCCA-125A92F3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blic Repor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formation will be driven in large part by measure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re some measures more suitable for public accountability or informed consumer choic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AFE1-3C85-4A92-AE4A-DDB30228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resource use information be provided confidentially or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resource use information were publicly re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quality and resource use information be reporte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resource use information be fra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might patients perceive and use th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AC96-AD92-4A64-A81E-B73A390F2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public reporting use the scoring used in determining incentive pay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ll performance measurement results be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7CD-1723-4300-8093-A743D4A56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compo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numbers or st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ny information be supp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benchma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trending informa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3F7A-74F7-443F-97C1-201F62EF9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6C97-C385-4ED6-867D-F6D96CBB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B19D-3A6B-40DB-9B4E-6E095D53D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ster greater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rove quality and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more informed decision-making by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quality and efficiency assessment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improved car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6E4-398E-4B58-B85A-47E4AEE42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VBP public reporting will build upon CMS’ current public reporting efforts and be modeled after existing Compar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has multiple audiences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atients (benefici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tients and their friends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s and other profess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EA61-09B8-45A3-BFB9-54F37A5DE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are designed and tested to insure that physicians, patients, their caregivers, and others understand and can use them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will use performance and other relevant information to help physicians, patients, and other stakeholders in thei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B287-EE61-4D95-B7DE-9592314A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ed Valu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ture Physician Compa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959B-B8B9-47FC-A746-A7ABA548A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urrent Physician Dir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3125" r="3127" b="18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CBA-7733-46BF-B100-524170ADC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ospital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9376" r="4688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3AB-A4C4-481E-8EB2-86A80B2D1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oup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pul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is most actionable for beneficiaries, physicians and other providers, the Medicare program, and other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best supports improved care coordination and reflects how beneficiaries receive c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1:4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35284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